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EB2-259D-4EFF-936B-84CDB24D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ADB-23C0-4F4D-A8E2-082FA7EB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AAA-846A-4084-A283-8D7AA69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A7E-9638-4FC7-BA01-484BD19A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386-AB40-4447-BD9B-8EA6649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010-89BB-4E95-8DFF-5DF2CB2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299-AFAB-485C-9A0C-51B45026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151-FC94-4056-8E3A-D0689516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796-F63D-4AF0-B013-814905E4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D50-9A45-4E50-AA7D-7D239C9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3D3-5091-4162-B639-1CA6FA6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832-B5E7-462E-80AC-13FD4973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85B0-9823-4303-8865-061A7D33B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handler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419112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7,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2895480"/>
            <a:ext cx="60199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Barbi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latin typeface="Curlz MT"/>
              </a:rPr>
              <a:t>D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latin typeface="Curlz MT"/>
              <a:ea typeface="Curlz M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41008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g Top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AC"/>
          <p:cNvPicPr/>
          <p:nvPr/>
        </p:nvPicPr>
        <p:blipFill>
          <a:blip r:embed="rId1"/>
          <a:srcRect l="0" t="0" r="0" b="6672"/>
          <a:stretch/>
        </p:blipFill>
        <p:spPr>
          <a:xfrm>
            <a:off x="0" y="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105520"/>
            <a:ext cx="7925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-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th Handle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10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handl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andler"/>
          <p:cNvPicPr/>
          <p:nvPr/>
        </p:nvPicPr>
        <p:blipFill>
          <a:blip r:embed="rId3"/>
          <a:srcRect l="24567" t="0" r="0" b="9363"/>
          <a:stretch/>
        </p:blipFill>
        <p:spPr>
          <a:xfrm>
            <a:off x="2895480" y="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inventor of the Barbie Doll, Ruth Handler, who invented it in 19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rbie D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The doll was invented in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A doll from Germany, the “Lilli” doll was where Ruth Handler got the idea for the l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It was introduced at the American Toy Fair in New York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The doll had it’s first bendable legs in The year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arrington"/>
              </a:rPr>
              <a:t>First year on the market, 351,00 dolls were sold at $3 each made Ruth Handler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0066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Hand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Ruth got the idea from watching her daughter and her friends playing with paper or cardboard do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Thought she should show girls what they could be when they were 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Also, she invented Barbie’s boyfriend, Ken, and got the name from her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Her daughter’s name was Barbara and that’s where she got Barbie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Ruth also had breast cancer while going through all this hard work of making the dolls and she still di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3:19:37Z</dcterms:created>
  <dc:creator>install</dc:creator>
  <dc:description/>
  <dc:language>en-US</dc:language>
  <cp:lastModifiedBy>install</cp:lastModifiedBy>
  <dcterms:modified xsi:type="dcterms:W3CDTF">2010-05-12T13:14:21Z</dcterms:modified>
  <cp:revision>9</cp:revision>
  <dc:subject/>
  <dc:title>Slide 1</dc:title>
</cp:coreProperties>
</file>